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5B1-36E6-4963-9126-A8A35C5A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0F5-B277-4D9F-B26F-EC95EB06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E6E0-3EC1-4D96-983E-6BC1F5B9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eachers with a user-friendly online format to reinforce strategies, introduce new topics and concepts, review important class points, review for tests, and provide enrich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history class held online discussions using a blog with the author of the novel they read, community members, family members, other students – made the learning process a more dynamic experience – have to set clear guidelines and expectations though. Teachers and students must be careful about what they post on the b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3D99-85B8-4139-84F5-0241A2E25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D86-D2DD-4CFC-BDD1-B11AFAEE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361-8DC5-40EC-A919-482E848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B79-9368-4B0F-BBF4-910394F2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FD6-ACAB-46B0-89A3-18A2B14A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68C5-83F0-4816-8669-F2D3DE96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4FD3-846D-4BD9-997C-37CE830B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962E-2D2C-450F-A8C1-CE0429C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06C2-ACA6-4778-A4C4-31D9920D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3442-A364-4976-95DB-20522B1A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8F14-7729-4F36-9202-1E899989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B9E6-BFA2-4EDE-BB88-EBC7871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194-272B-42A0-A790-020CF468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A8E3-F7A9-470F-95A9-79829F76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E654-0169-462F-AD2C-645FC8E6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357A-2D5C-4131-A561-87E804B6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1202-9404-42C6-8105-551DDD7F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642F-DD29-46FF-81D0-ACCBED04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75C-C1A3-43D0-A308-537CAB9F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41D-5B50-4C0C-A342-B8036D89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3B0-34E2-42D3-9AD5-A66A85A4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11B-ED86-4B2A-BF6A-3BF41AC2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D3C-A7D6-42D6-A722-E5CE7811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7ED-48FE-4491-9822-9AAB0AC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B17-135F-4C73-8B16-9416FC5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prstGeom prst="pie">
              <a:avLst/>
            </a:pr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5D6F-633C-417B-A2E9-7145CF1DDBA1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prstGeom prst="pie">
              <a:avLst/>
            </a:pr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187A-23B2-4145-8C3C-7E34A4C515FA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logger-book-club.blogspot.com/" TargetMode="External"/><Relationship Id="rId3" Type="http://schemas.openxmlformats.org/officeDocument/2006/relationships/hyperlink" Target="http://www.blogger-book-club.blogspot.com/" TargetMode="External"/><Relationship Id="rId4" Type="http://schemas.openxmlformats.org/officeDocument/2006/relationships/hyperlink" Target="http://www.blogger-book-club.blogspot.com/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3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4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5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6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7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8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9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0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1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2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3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4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5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6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vigator-kutztown.passhe.edu/login?url=http://search.ebscohost.com/login.aspx?direct=true&amp;db=a9h&amp;AN=24445663&amp;site=ehost-live&amp;scope=site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vigator-kutztown.passhe.edu/login?url=http://search.ebscohost.com/login.aspx?direct=true&amp;db=a9h&amp;AN=25102102&amp;site=ehost-live&amp;scope=site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ara Gerhart, Jillian Zarra, and Karen Schmi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blogs effectively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opportunity for students to become familiar with computer skills such as typing and copying/p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tudents realize their efforts are published, they are more motivated to produce better writing – especially good for those who aren’t so easily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blogs effectively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mentoring is available - older students can help younger students develop more confidence in their writing ski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time to react to ideas and reflect on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’s blog:</a:t>
            </a: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3"/>
              </a:rPr>
              <a:t>http://www.blogger-book-club.blogspot.</a:t>
            </a: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4"/>
              </a:rPr>
              <a:t>com/</a:t>
            </a: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gages students, attractive layout, not being used thou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book discussion blog: </a:t>
            </a:r>
            <a:r>
              <a:rPr b="0" lang="en-US" sz="3200" spc="-1" strike="noStrike" u="sng">
                <a:solidFill>
                  <a:srgbClr val="0000f0"/>
                </a:solidFill>
                <a:uFillTx/>
                <a:latin typeface="Arial"/>
              </a:rPr>
              <a:t>http://nnhsbooktalks.blogspot.com/</a:t>
            </a: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choices for discussion, would like to see more frequent postings</a:t>
            </a: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lehem Area Public Library blog: http://www.bapl.org/wordpress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good way to update the public on events, new materia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3"/>
              </a:rPr>
              <a:t>//navigator-kutztown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5"/>
              </a:rPr>
              <a:t>passhe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7"/>
              </a:rPr>
              <a:t>edu/login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8"/>
              </a:rPr>
              <a:t>?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9"/>
              </a:rPr>
              <a:t>url=http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0"/>
              </a:rPr>
              <a:t>://search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1"/>
              </a:rPr>
              <a:t>ebscohost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2"/>
              </a:rPr>
              <a:t>.com/login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3"/>
              </a:rPr>
              <a:t>aspx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4"/>
              </a:rPr>
              <a:t>?direct=true&amp;db=a9h&amp;AN=28031222&amp;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5"/>
              </a:rPr>
              <a:t>site=ehost-live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6"/>
              </a:rPr>
              <a:t>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avigator-kutztown.passhe.edu/login?url=http://search.ebscohost.com/login.aspx?direct=true&amp;db=a9h&amp;AN=24052706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navigator-kutztown.passhe.edu/login?url=http://search.ebscohost.com/login.aspx?direct=true&amp;db=a9h&amp;AN=24445663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avigator-kutztown.passhe.edu/login?url=http://search.ebscohost.com/login.aspx?direct=true&amp;db=a9h&amp;AN=24121622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navigator-kutztown.passhe.edu/login?url=http://search.ebscohost.com/login.aspx?direct=true&amp;db=a9h&amp;AN=25102102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avigator-kutztown.passhe.edu/login?url=http://search.ebscohost.com/login.aspx?direct=true&amp;db=a9h&amp;AN=26915488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lo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0 Mar 2008  &lt;http://www.blogger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Stuff 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0 Mar 2008  &lt;http://www.computer.howstuffworks.com/blog.htm&gt;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raft, "Blogs in Plain English." November 2007. 10 Mar 2008 &lt;http://www.youtube.com/watch?v= 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I1pWXjXI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is an abbreviated term for “weblog”, which describes web sites that maintain an ongoing chronicle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ly updated, personal website featuring diary-type commentary and links to articles on other Web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from personal to political, focus on one narrow subject or a whole range of subje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blog?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ed in reverse chronological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cent entries are displayed first and viewed first by website view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ce to store all your thoughts pertaining to a specific subject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 or di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lude photographs, videos, and audio cl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makes a blo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in content area with articles listed chronologically, newest on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s are organized into categ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chive of older 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for people to leave comments about the 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links to other related sites, sometimes called a "blogroll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g Gloss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– past po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er – blog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ing – the activity of updating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roll – list of favorite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– subject 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– reader’s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– your blog can be seen by an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can I start a free blo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er - www.blogg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press – www.wordpres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 Journal – www.livejourn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– www.blo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4120" y="5029200"/>
            <a:ext cx="3295440" cy="952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grating blogs into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teachers to extend clas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lessons, homework, and other class information available to students,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and librarians can answer questions and 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differentiated instruction for students with specia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grating blogs into education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OVE technolog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uses for blogs to engag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own blogs can affect schoo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issues related to copyright, plagiarism, and priv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743200" cy="1806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62485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Copyright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blogs effectiv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, organize and protect student work as digital portfol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to organize student's own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ind them convenient and accessible from home or library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20:36:31Z</dcterms:created>
  <dc:creator/>
  <dc:description/>
  <dc:language>en-US</dc:language>
  <cp:lastModifiedBy>KU KU</cp:lastModifiedBy>
  <cp:lastPrinted>2008-03-25T19:21:11Z</cp:lastPrinted>
  <dcterms:modified xsi:type="dcterms:W3CDTF">2008-03-26T22:04:13Z</dcterms:modified>
  <cp:revision>24</cp:revision>
  <dc:subject/>
  <dc:title>Blogs</dc:title>
</cp:coreProperties>
</file>